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A27E-109C-4036-96FC-FEC7CE888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F4EC-D2B7-46D1-9C5C-6EB1A692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9CDF-F306-4AF3-905C-4AB9C4463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B2B5-C68D-4B64-A991-CCE1BCE2D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12A3-C56D-4BD0-B934-DC809894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A489-6EBD-42C2-8294-D2D3CBD8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9280-0661-4AFA-A8AD-8428F5A3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88F9-4698-4ECE-8F13-1B244D55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E23F-4459-4CD8-A9A7-AD0D747C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CCE5-B259-4245-ADAD-28ED8334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5982-6125-4AA6-A3C3-CBA0BEA2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9AE3-0C10-4039-B5B8-F44B3298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0660-F5C5-48DD-8006-65176EFE8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logger.com/start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led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ting what you’ve learned to wor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43000" y="5334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573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 “Look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4191120" cy="452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562720" y="1676520"/>
            <a:ext cx="29718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a template for your b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determines the color scheme and font 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easily change this later if you don’t like your initial selec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you’ve selected a look and feel for your blog, click the orange “Continue” arr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657240" y="4724280"/>
            <a:ext cx="2057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522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previousslide"/>
          </p:cNvPr>
          <p:cNvSpPr/>
          <p:nvPr/>
        </p:nvSpPr>
        <p:spPr>
          <a:xfrm>
            <a:off x="69343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063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gratulations!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Are Now a Blogge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648320" cy="45259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791320" y="1752480"/>
            <a:ext cx="2895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you are a blogg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orange arrow that invites you to start blogging, go to your blog, and start writing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962160" y="2819520"/>
            <a:ext cx="19047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83808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8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previousslide"/>
          </p:cNvPr>
          <p:cNvSpPr/>
          <p:nvPr/>
        </p:nvSpPr>
        <p:spPr>
          <a:xfrm>
            <a:off x="70102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1785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rt With What You’ve Already Writ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each of the documents you created in this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you are happy with what you’ve written, identify some key words that reflect the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edit your blog. Create a new entry, and, one at a time, copy and paste each document as a new blog p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key terms and key words for each post, and save your postings as your complete the edit of that p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69343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45500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 Wri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a time when you learned a valuable new lesson or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about an important day in your car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how you learned new information and sorted it all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some things that you wish you would have known years ag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49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18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previousslide"/>
          </p:cNvPr>
          <p:cNvSpPr/>
          <p:nvPr/>
        </p:nvSpPr>
        <p:spPr>
          <a:xfrm>
            <a:off x="69343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26854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ost Important Th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ing the information and knowledge learned by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ing the organization’s past in order to ensure our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 for participating in the organization’s Knowledge Management progra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049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" action="ppaction://hlinkshowjump?jump=previousslide"/>
          </p:cNvPr>
          <p:cNvSpPr/>
          <p:nvPr/>
        </p:nvSpPr>
        <p:spPr>
          <a:xfrm>
            <a:off x="69343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9366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 you for your contribution to the organization’s future by documenting the pas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38080" y="5410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7" name="">
            <a:hlinkClick r:id="" action="ppaction://hlinkshowjump?jump=previous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8069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nal 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is course, we’ve discussed the importance of sharing knowledge within our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tools that is used in order to collect knowledge and information in order to share it is a “blog”—you will be creating one as your final course pro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5715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67057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323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Blo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log is short for a Web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n-line journal used to record your own lessons learned and 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ool used to share information across a community of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log is whatever you want it to b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52578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" action="ppaction://hlinkshowjump?jump=previousslide"/>
          </p:cNvPr>
          <p:cNvSpPr/>
          <p:nvPr/>
        </p:nvSpPr>
        <p:spPr>
          <a:xfrm>
            <a:off x="70102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0759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Blo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gs are search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thoughts and ideas can be logged without concerns for order, format, or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gs are already in wide use throughout our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90720" y="53341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67816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8077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to beg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, create a b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blogger.com/st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371600" y="2971800"/>
            <a:ext cx="4343400" cy="3473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477120" y="3276720"/>
            <a:ext cx="228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ill get a screen like this 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orange button that says “Create A Blog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4495320" y="4495320"/>
            <a:ext cx="17528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33520" y="59436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66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" action="ppaction://hlinkshowjump?jump=previousslide"/>
          </p:cNvPr>
          <p:cNvSpPr/>
          <p:nvPr/>
        </p:nvSpPr>
        <p:spPr>
          <a:xfrm>
            <a:off x="70102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6680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llow th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3581280" cy="4148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419720" y="1981080"/>
            <a:ext cx="38098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you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ame you want to have displayed on your blog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ee to the legal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y that you are not malicious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“Continu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33520" y="6172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flipH="1">
            <a:off x="2971800" y="5181480"/>
            <a:ext cx="1447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previousslide"/>
          </p:cNvPr>
          <p:cNvSpPr/>
          <p:nvPr/>
        </p:nvSpPr>
        <p:spPr>
          <a:xfrm>
            <a:off x="68580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8422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ify Your Accou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5333760" cy="4525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629400" y="1905120"/>
            <a:ext cx="2133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your cellphone number to get a text message that will allow your to confirm this new accou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049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 flipH="1">
            <a:off x="2590920" y="2362320"/>
            <a:ext cx="41148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" action="ppaction://hlinkshowjump?jump=previousslide"/>
          </p:cNvPr>
          <p:cNvSpPr/>
          <p:nvPr/>
        </p:nvSpPr>
        <p:spPr>
          <a:xfrm>
            <a:off x="70102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7172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er Your Confirmation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809880" cy="4525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105520" y="190512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the Confirmation Code you just received via text message and click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1447560" y="2590920"/>
            <a:ext cx="373356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8580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" action="ppaction://hlinkshowjump?jump=previousslide"/>
          </p:cNvPr>
          <p:cNvSpPr/>
          <p:nvPr/>
        </p:nvSpPr>
        <p:spPr>
          <a:xfrm>
            <a:off x="69343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0275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Your B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3809880" cy="4525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486400" y="1905120"/>
            <a:ext cx="312408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your blog (Jphn’s journal, for examp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URL where your blog can be found (use the default sett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y the information and vali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“Continue” when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2860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 flipH="1">
            <a:off x="3580920" y="4495680"/>
            <a:ext cx="2057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previousslide"/>
          </p:cNvPr>
          <p:cNvSpPr/>
          <p:nvPr/>
        </p:nvSpPr>
        <p:spPr>
          <a:xfrm>
            <a:off x="69343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4799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21:38:23Z</dcterms:created>
  <dc:creator>Anne Brooker-Grogan</dc:creator>
  <dc:description/>
  <dc:language>en-US</dc:language>
  <cp:lastModifiedBy>Anne Brooker-Grogan</cp:lastModifiedBy>
  <dcterms:modified xsi:type="dcterms:W3CDTF">2010-02-14T21:38:27Z</dcterms:modified>
  <cp:revision>16</cp:revision>
  <dc:subject/>
  <dc:title>Knowledge Management</dc:title>
</cp:coreProperties>
</file>